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4DE-489D-476C-B3EC-1F09AE85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89D-7B8B-4C61-AB19-95FDAD0F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1C1-D74C-4B8F-AA85-97AD3529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AF62-998A-42E7-BB4F-9E0E5A38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1398-1767-4192-82F5-68A9D773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20BB-7D6F-4DE3-B265-ED02C9F8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BAE6-469E-48DF-952B-9787F8D9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4641-1296-47F7-ABBA-1C48ABF4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EA6B-B706-42C0-B008-49CA7208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24D6-6DB3-4008-970E-96407358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65FF-B9C4-48C5-B144-6B7EAC7F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4069-79F4-476B-B241-FB1349A5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F3DB-941C-4015-AB38-2700F372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D740-3774-410E-ABE4-3F5B6DE9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2182-EA85-4FFC-B8D7-20F98C72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22EB-2172-47B1-9D85-F96F32DC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34CA-4E47-472B-986F-9488A306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F39-980F-4D66-847A-D29CBAAC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4BBF-951E-4287-B34B-7C0321A6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440-19EF-49B8-9A0E-FC68162D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81B-3610-4628-9A5B-91A12956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508-BD0E-423E-9096-657BD26D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6B3F-4288-4E7E-A49B-F28C978B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26C-2488-46F0-B679-CE1CD77E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B988-4DEB-4B44-A78E-3B79972039A8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473040" y="3159000"/>
              <a:ext cx="866952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A099-9AC3-4959-A6D8-3310A426B235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l / a la / del / de la / en el / en la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6019920" y="56386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spañol 1 Capítulo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bibliotec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25146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clase de español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clase de español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251460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restaurante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restaurante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259092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parque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parque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2666880" y="3808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oficina del directo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oficina del directo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22860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tienda de rop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reposition A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 +el=al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+la= a 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s “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 th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 or “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t th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personal “A” when referring to a person or your loving p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on’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 with the verb TE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 habla a mi amigo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 tengo muchas amig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tienda de rop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22860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escuel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escuel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228600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la pluma _______ profeso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la pluma _______ profeso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35053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la chaqueta _______ muchach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la chaqueta _______ muchach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AutoShape 6"/>
          <p:cNvSpPr/>
          <p:nvPr/>
        </p:nvSpPr>
        <p:spPr>
          <a:xfrm>
            <a:off x="41911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carro _______ directo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carro _______ directo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20040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perro _______ profesor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reposition 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found in many expressions and has many 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 + el = de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 + la= de 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mean “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f th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 or “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rom th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¿De quién es? = who is (referring to 1 ite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¿De quién son= who is (referring to 2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perro _______ profesor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32004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pupitre _______ alumn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pupitre _______ alumn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36576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padre _______ alumn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padre _______ alumn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AutoShape 6"/>
          <p:cNvSpPr/>
          <p:nvPr/>
        </p:nvSpPr>
        <p:spPr>
          <a:xfrm>
            <a:off x="342900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gimnasi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gimnasi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1981080" y="3049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sala de ciencias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sala de ciencias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19051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cafeterí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 quié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you believe the item or items belong to only 1 person. U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 quién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hen you believe the item/items belong to 2+ peop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de to show ownership and pos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NO apostrophes in Span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 libro de David.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 libro de Ana y Mar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cafeterí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AutoShape 8"/>
          <p:cNvSpPr/>
          <p:nvPr/>
        </p:nvSpPr>
        <p:spPr>
          <a:xfrm>
            <a:off x="20574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bibliotec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bibliotec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AutoShape 8"/>
          <p:cNvSpPr/>
          <p:nvPr/>
        </p:nvSpPr>
        <p:spPr>
          <a:xfrm>
            <a:off x="1981080" y="3049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colegi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colegi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AutoShape 7"/>
          <p:cNvSpPr/>
          <p:nvPr/>
        </p:nvSpPr>
        <p:spPr>
          <a:xfrm>
            <a:off x="213372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tro _______ oficina ______ escuela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tro _______ oficina ______ escuela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AutoShape 8"/>
          <p:cNvSpPr/>
          <p:nvPr/>
        </p:nvSpPr>
        <p:spPr>
          <a:xfrm>
            <a:off x="1752480" y="3049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tro _______ oficina ______ escuela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AutoShape 6"/>
          <p:cNvSpPr/>
          <p:nvPr/>
        </p:nvSpPr>
        <p:spPr>
          <a:xfrm>
            <a:off x="51055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AutoShape 8"/>
          <p:cNvSpPr/>
          <p:nvPr/>
        </p:nvSpPr>
        <p:spPr>
          <a:xfrm>
            <a:off x="1752480" y="3049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tro _______ oficina ______ directo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tro _______ oficina ______ directo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AutoShape 8"/>
          <p:cNvSpPr/>
          <p:nvPr/>
        </p:nvSpPr>
        <p:spPr>
          <a:xfrm>
            <a:off x="182880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cafetería ahor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tro _______ oficina ______ directo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AutoShape 5"/>
          <p:cNvSpPr/>
          <p:nvPr/>
        </p:nvSpPr>
        <p:spPr>
          <a:xfrm>
            <a:off x="51055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AutoShape 8"/>
          <p:cNvSpPr/>
          <p:nvPr/>
        </p:nvSpPr>
        <p:spPr>
          <a:xfrm>
            <a:off x="182880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oy _______ oficina ______ directo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oy _______ oficina ______ directo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AutoShape 4"/>
          <p:cNvSpPr/>
          <p:nvPr/>
        </p:nvSpPr>
        <p:spPr>
          <a:xfrm>
            <a:off x="144792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oy _______ oficina ______ directo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AutoShape 4"/>
          <p:cNvSpPr/>
          <p:nvPr/>
        </p:nvSpPr>
        <p:spPr>
          <a:xfrm>
            <a:off x="144792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48006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Oval 12"/>
          <p:cNvSpPr/>
          <p:nvPr/>
        </p:nvSpPr>
        <p:spPr>
          <a:xfrm>
            <a:off x="1981080" y="2133720"/>
            <a:ext cx="4876920" cy="31240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cafetería ahor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25909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gimnasi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gimnasi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25909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bibliotec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1:19:35Z</dcterms:created>
  <dc:creator>Paul Widergren</dc:creator>
  <dc:description/>
  <dc:language>en-US</dc:language>
  <cp:lastModifiedBy> </cp:lastModifiedBy>
  <dcterms:modified xsi:type="dcterms:W3CDTF">2010-10-26T17:26:12Z</dcterms:modified>
  <cp:revision>8</cp:revision>
  <dc:subject/>
  <dc:title>al / a la / del / de la / en el / en la</dc:title>
</cp:coreProperties>
</file>